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FE29-6797-4F89-A601-C5BA1C19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2558-A27B-49C1-9A82-15034F158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C0CCC-A6A3-4886-82A5-1F898A234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DCF7-C632-46A8-BD67-3A00B336D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09BF2-50CB-4CCF-8CFF-6EA6A8008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81A95-B7B7-4F34-BAED-1437EB38E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18B72-9460-495B-9317-BECC8783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686CB-68EF-49AB-B02F-C9B0C276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BCDA1-44B1-499C-905D-52991C7E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6513B-E8F9-4645-B8D9-3394FD8DC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68DCE-7407-4BD0-AC09-A96C3E1E9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2288-A375-460A-89B6-E4239EF4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1535A-58D3-4790-836D-31A8C5D2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AF6BD-83FD-4384-A21C-A3F025D1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C7AA-5B66-41B0-828C-F30C0AFC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D3889-9D45-40F6-9332-9A9536331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60BC-F96D-403D-A410-4E9FCF4D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ACD1-CCE6-4590-B3E9-C3064348F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933A6-B467-44BF-AE59-7EBCE60D6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F97D-4D31-426B-AEFB-997D5A250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18BD-7038-4B39-944B-59B2B36F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B726-D19A-440B-A8AD-1E00A8DD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B139-DA74-4CAD-A5B8-958A5670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18DF-B06E-4FE8-945D-CE3CD96D2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6E7-1A9D-421B-88F3-ADB75711EB49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71A24-0B04-461F-A43D-BCA11123F697}" type="slidenum">
              <a:rPr b="0" lang="ar-SA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wind.wav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24000" y="838080"/>
            <a:ext cx="6696000" cy="518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190520" y="843120"/>
            <a:ext cx="676296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14280" y="852480"/>
            <a:ext cx="671544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24000" y="861840"/>
            <a:ext cx="6696000" cy="51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233360" y="833400"/>
            <a:ext cx="6677280" cy="51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14280" y="843120"/>
            <a:ext cx="671544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224000" y="843120"/>
            <a:ext cx="6696000" cy="51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224000" y="852480"/>
            <a:ext cx="6696000" cy="51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5T07:51:07Z</dcterms:created>
  <dc:creator>0mar a. ali</dc:creator>
  <dc:description/>
  <dc:language>en-US</dc:language>
  <cp:lastModifiedBy>0mar a. ali</cp:lastModifiedBy>
  <dcterms:modified xsi:type="dcterms:W3CDTF">2006-06-26T12:21:35Z</dcterms:modified>
  <cp:revision>3</cp:revision>
  <dc:subject/>
  <dc:title>Slide 1</dc:title>
</cp:coreProperties>
</file>